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02C2-405E-49C0-B7EC-BC35EDE6C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247-B9CE-459E-8288-308A410E3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5B5-D82F-4006-A092-E8D2671B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202-8108-424F-B997-3802E27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858-5336-4268-A02A-54D1DB84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987-E718-4EB8-9FE2-DFC29311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7BA-9EA0-4C25-B939-6815539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DCC-DABD-45F5-9593-1C773DC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660-825A-4D49-907D-BF8D91C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0DF-7A6B-4653-AA24-0BD1FF2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E60-1A84-4628-8103-F4443D0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2F8-896F-4B58-96ED-BC5E6A6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A92-4948-46CB-BFC8-6DF130C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7C5-E42F-4613-94C6-967A0C6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64FC-8BB8-4F3E-B665-E03ABB94D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771-749A-49D5-8640-C01AB1B66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рта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EC5-A164-4D73-9D64-A1996720B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2-27T06:36:09Z</dcterms:modified>
  <cp:revision>148</cp:revision>
  <dc:subject/>
  <dc:title>Презентация PowerPoint</dc:title>
</cp:coreProperties>
</file>